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DF3B-C967-41A8-BC02-58E35F525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kidshelpphone.ca/Teens/Home.aspx" TargetMode="External"/><Relationship Id="rId2" Type="http://schemas.openxmlformats.org/officeDocument/2006/relationships/hyperlink" Target="http://www.prevnet.ca/bullying/kids/letter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521B-EF44-4B8D-A825-81DE47D83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ro – Me – presenting for 10 years, 6 kids (11-23) – I do this for them and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o is on instagram? Snap Chat? Vine?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o is on Facebook regular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ernet Generation- not one student here has ever not know the Internet or a Smart ph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mart phones 2002 on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one in your Instagram followers posts an inappropriate picture of a friend of yours, others are commenting and piling on with mean comments –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799E-F709-4A76-9F42-843ED61D1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nd your boy/girlfriend a “personal” picture via Snapchat. He/she takes a screensh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weeks later you want to break up with them and they threaten to share the picture.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61EB-0323-4462-AF3D-A3759A91EE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YOU are being bulli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lk away or leave the online conver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ep track of the bullying (write it down and/or save a screenshot of the online message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l a trusted adult. If you don't trust anyone or need to speak with someone urgently, contact the confidential and toll-free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ids Help Ph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the bullying to school administrator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criminal offences, such as threats, assaults and sexual exploitation to the local police detachmen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unwanted text messages to your telephone service provide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online bullying to the social media site and block the person respons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someone you know is being Bulli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you feel it's safe to do so, tell the bully to sto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 friends/students/youth or an adult who can help stop i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friend the person being bullied and lead them away from the situ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it to a teacher or school staff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ll out an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nonymous lett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drop it off to a teacher or any adult you tru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2C5B-09B5-489A-B87C-ABC3D3092D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7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Canadian students in Grades 8-10 reported witnessing school bullying in the past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time, bullying stops in less than 10 seconds when bystanders interv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0D6B-7CFE-4F73-B9C0-79B7EBA4ED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“Perman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– emotional injury as opposed to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what you post and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s =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1C4E-6729-41C3-87BA-8466978317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D 43 poster that reminds us to THINK and get in touch with that moral compass – considering our choices and the consequences that come wit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A2EB-9805-4014-9ED4-33871F4777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ian kids spend an average of 7.5 hours in front of screens each day*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it hard for a child to sleep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kid’s risk of attention problems, anxiety, and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a child’s risk of gaining too much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less time for active, creativ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 Sleep recharge yourself as well as your ph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’s Not About Abstinence, It’s Abou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ime/lots of new tech/lots of fre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you going to be when no one is loo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oices will you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18B9-4B38-4E52-9071-B590C2BD5A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/Tech Habits and behavi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we communicate, express, and be enter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o amazing about this and what’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s and the results of our choices/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our values – what we believe is right – the development of our moral 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119C-E3F8-468F-8899-DE8DBD32C4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5AE3-5618-4091-95CD-32F2CA0FBC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sense of purpose in the palm of our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D0BD-77C4-48C4-994C-0EC8469B10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s are NOT the Exp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volunt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D5CC-57AC-4554-950A-4221867582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students surveyed, top 10 answers on the boar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/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/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nging/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re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He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Id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133F-1EE4-4E9D-BE88-93655143EE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5187-B630-490C-808F-3668D56A24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ic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CDDA-5A7C-47CA-A8DF-9010B15B2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uming another person’s id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ing their personal information in a negativ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berbullying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ing mean or threatening emails or text/instant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ing embarrassing photos of someone on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a website to make fun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ing to be someone by using thei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ing someone into revealing personal or embarrassing information and sending it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berbullying affects victims in different ways than traditional bullying. It can follow a victim everywhere 24 hours a day, 7 days a week, from school, to the mall and all the way into the comfort of their home - usually safe from traditional forms of bull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side looks so Cool, 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od side always 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It’s about inner peace. We carry negative things around with us that lead to stress, anxiety, de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voice and gut 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you when no one is look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E24A-F8E6-44A9-9581-16678A9951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CA5-0740-453B-894A-030AE5A6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4BB-E99F-44DC-ACA3-0D14BA41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0B762-9771-46D4-86F6-5012F73E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26111-74D3-46E8-9EDA-4E84C722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E260F-4F8C-44FF-BA11-14B3D00C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0C7B1-1F85-4D2C-9A80-EE622525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BDC4D-A2DE-42AB-91ED-70B2BC41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29B58-ECB4-4356-A114-8791A47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18FDE-AF27-40E0-8618-EEEFFDEE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BFF77-F0D6-4FB6-92EE-1A67C1EB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5F860-D1FC-4ACC-A4EA-1F8740BE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C4BCA-4AB7-4EAF-8DA5-5BC0BFD7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AFA-4FD0-411B-84F0-0419DCB3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B672F-CB44-4C44-A6BE-76426808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425F4-DADB-4B1A-ADFD-92B09D6C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FBEE8-65F0-48FC-8050-5F07E8A7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5D825-352A-4AA5-A0AD-2EBF73D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AED44-C17B-4246-AE29-CC76CFA0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F3AF0-220B-40EE-8391-57C85FD4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48A45-1451-4463-8814-4432F3C9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54D31-31B6-44BB-B9DC-24047E2F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AED57-90E7-432D-B5F0-F4852FC4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A48AC-43A1-44D9-BBC5-912583F1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B1D-3C01-4D9A-9A14-F209829B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CD6BB-F984-4FE1-886F-F3123687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6A2B6-5D40-4348-9996-565D243A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50BAA-01CA-4C09-9AC9-75FE4FB0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6695C-B69D-4437-ADD8-A69E5463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B305C-D7E5-4FBE-BCB0-BDC42C5B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C1C4-5A04-4A8E-8A6E-20CC2223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51905-0839-4E0E-B82E-53BAC16A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1F613-6D65-47EE-BECA-6558B72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24C11-39D3-4545-8489-0A2F7F5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7B583-6CDE-43C9-AD7E-24BAC20D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E27D-3326-4405-9D9B-CCCA307D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62348-09C6-4EB5-A88B-F16A9331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A1271-8E2E-475D-AA69-313AAA99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D7695-0E68-4C28-8086-0D856B96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512B8-8A74-4C0C-B101-5EFD09E9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53FB2-B302-40B2-B7C0-6CD3386A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9E9EC-BC57-46A9-BB54-9184F828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BCD3E-7B7E-4D9E-B175-F5B17E58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BF0C6-AA94-49A8-8BE7-62A67C24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2D68A-DE2E-433E-AD57-3930E553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86B65-9DF8-4239-805F-39149C3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5A6E-A474-478B-BC76-9A3C49D6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55129-19A1-43EF-96E6-3045E2D2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914FB-FC75-4C91-B74D-1DAAF14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A40D2-E702-4D41-A00A-BF8D21BB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D45DC-7C97-4DC6-95ED-FD7CFC77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2CEC2-FC57-49F7-A1A0-0A12BC84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4D97-B2AB-402F-88A8-60B67904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92D7-2676-4794-B74D-0B9C3AE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7902-A1C2-48CE-A162-5132C28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8105-F531-4395-907E-9B6F8A7E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54DA-2DAC-49BC-99B1-D01A456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EDD-66A7-4269-8A93-81D25B6B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9D1A-4A71-459E-BA0D-253BF83E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81D-F61E-4D8B-8AAC-3279A281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536F-0880-426C-9959-711B4BF8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662C-1A9B-4B8D-9A03-C34F5615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1A34-7A42-4022-B2A4-051793E7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B47D6-3138-439A-AE68-EEE8A5EE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AC36-50E5-4CE3-A40E-226D6D19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7950-47A7-43C8-9BF7-23B1D20D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A0BC-CFA9-4BF7-8C6D-B436F63C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B0FC-9150-47D5-80B5-0198CAB0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C4D-AB84-4C06-9488-E8F8FC4C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8BF6-8E20-40E7-B0B4-2B7A4D3F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6D59-AC68-40EF-A7FC-FC6810C3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45A5-75F3-4C71-A53E-287C313B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DB54-3C90-46A0-81BD-3872549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BF4F-0EB8-48A2-AD27-89DFBA61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D9D9A-B700-4FEF-A0E4-192FF3EC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8FE8-D1F2-4906-BE55-CBA9AEC8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34C8-785A-44F0-933B-77609067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504D-D32C-41DF-BCBA-B4B2E5B3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203B-E17B-4D87-A94E-CD02BCE9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08C-E763-4E92-B9FB-53BE44C8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3FAA-8FCF-444D-8F0F-471B8619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5FF9-9A4C-4F19-9545-983A1E1A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F86AA-3CE6-4BFD-8750-45071E48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4E1F-3ADC-4EB9-8F54-8C6E4797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D347-073E-43CC-AC28-5FF8CB3A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82D06-5B57-4305-A059-B85B425A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763F-8AB3-4ADF-8A07-3706542F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6712-8DE5-4786-8544-E88A36EB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8E8E-4165-4006-964D-2B48F891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5BA74-9D7A-4095-B7A7-CED864EA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827-ABBD-4C42-9A9C-904CFE3C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8D20C-737F-4937-9F97-20642E38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48DCD-F4C0-40A0-AC1D-B810E46A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DB92-348C-4C1F-9895-AD653555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71993-4FF6-4231-9367-ACB6B87C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37D3A-C316-4CB5-A8A0-6EC4EBCE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9C04-A622-431F-85DC-5B871830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EE713-21F4-4A38-B609-E7FCAA3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551DE-321E-4A93-BD1A-E4EAED9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03F6-1DAA-4512-97F7-78C3D91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49AE-17A8-4C7C-B179-988D7D1A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67A-C705-466B-8C09-36827E64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AC0B-D70F-43A3-A7F6-47A08023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A942E-75E2-4087-A89C-1D12648C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13225-75FA-4001-8C82-3EF004DE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AE81-7C90-41B9-A5C0-20DF4996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DFC2A-619F-4FAA-8BE4-B7CF3265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D62FD-4229-4505-ABB0-CCD17981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99E1-C01B-472B-BB0A-8804ECAC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66D2-B122-4F4D-BB35-5F5749B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69A88-5101-47EE-916F-5232E35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5A2CD-2F20-4710-9B9F-01ADC97F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712-9D2B-4E0C-8E58-0B20D87A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91B47-C541-4795-985C-EB4D0F27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9646-2FD2-48F4-86B0-6AE0E349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F0E0B-C6C6-477E-91E7-313F31A7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4F60-6FB4-45C5-86F0-22B86B11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39590-9079-4F29-93C2-B32E3A19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C1886-7931-4786-80A7-DE85AFF9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9C62-05B0-4F12-A24F-675FA027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CACB5-0364-4A6A-812A-407EAFB8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EFD52-DAE9-4C86-B504-054A2749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5D68-31B5-48EF-B5DD-F8652247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C11-719F-4BDF-B5FD-4F02E2E8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0036A-0CBA-492D-9AE2-3A86260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14CBF-02A0-4C66-B88B-650D26DA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FF8F-1F6B-462D-88F5-0DC284BF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DF487-1D05-4C6F-9E0E-A6F7CF33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C4592-A75E-4068-AE8F-03230265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397AA-DB8F-4C25-8073-A67D5AA6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D9128-D73A-49A1-87CB-DEF3F653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3D7F5-8E9A-486E-AAAC-CC69A3B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97762-4533-44A2-A013-947E99F7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54004-B56E-43FB-AA49-47CE4D7F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3B8-FD39-4352-943F-4E5FB73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1DC3A-9A19-4154-9961-BF126654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208A-9861-4655-B5FB-0F2ADEEC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4EC9B-70E6-44CA-B0EE-075FB567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37A8F-239D-49AE-84D6-9AD3882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F37E0-E1AF-439B-ABE8-697F22CE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FDE07-908E-45F7-AD6E-A65473ED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BC7D-7720-42E3-B4E1-146F5EB4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7B213-50BB-422F-ADEF-035F0CD2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25D26-9B7E-42D9-AE65-FF24E5FA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819F0-1A2B-4BD5-B997-6A98F7B2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2F69-49E0-4F49-9453-4BA9942855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9AE3-14C1-4AEE-861B-0454EB8A4E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5B9B-8E9D-4390-83D0-9E87EDBF06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4D0E-E731-4D3A-A39B-940DADEB16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092F-253A-49FB-8C9D-803A76AA65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8FA0-7FD9-4BA8-A718-14BB805994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451"/>
              </a:spcBef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451"/>
              </a:spcBef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E81A-D44B-4458-A82A-1B5479B6B9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3751-E604-44A9-AFEE-3662AB1C0E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C30B-478D-4630-BCDB-519816F15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CD7F-6AA0-4489-931D-BA697E99C0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79B-5491-4127-9F12-A4FDF24E1D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7F77-F388-4401-8061-3B8BCF8DCA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632720" cy="10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ockwell"/>
              </a:rPr>
              <a:t>Growing up Digital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45" name="Picture 9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1498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1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" descr=""/>
          <p:cNvPicPr/>
          <p:nvPr/>
        </p:nvPicPr>
        <p:blipFill>
          <a:blip r:embed="rId2"/>
          <a:stretch/>
        </p:blipFill>
        <p:spPr>
          <a:xfrm>
            <a:off x="3132000" y="2349360"/>
            <a:ext cx="520236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Content Placeholder 1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5322960" cy="35416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3203640" y="185760"/>
            <a:ext cx="2759040" cy="27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 rot="17100000">
            <a:off x="-1257480" y="3033360"/>
            <a:ext cx="50659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71" name="Content Placeholder 5" descr=""/>
          <p:cNvPicPr/>
          <p:nvPr/>
        </p:nvPicPr>
        <p:blipFill>
          <a:blip r:embed="rId1"/>
          <a:stretch/>
        </p:blipFill>
        <p:spPr>
          <a:xfrm>
            <a:off x="3468600" y="963720"/>
            <a:ext cx="46818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1096920" y="333360"/>
            <a:ext cx="3603600" cy="36021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4140360" y="4292640"/>
            <a:ext cx="31255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Content Placeholder 3" descr=""/>
          <p:cNvPicPr/>
          <p:nvPr/>
        </p:nvPicPr>
        <p:blipFill>
          <a:blip r:embed="rId1"/>
          <a:stretch/>
        </p:blipFill>
        <p:spPr>
          <a:xfrm>
            <a:off x="2513160" y="461880"/>
            <a:ext cx="4622760" cy="58467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"/>
          <p:cNvPicPr/>
          <p:nvPr/>
        </p:nvPicPr>
        <p:blipFill>
          <a:blip r:embed="rId2"/>
          <a:stretch/>
        </p:blipFill>
        <p:spPr>
          <a:xfrm>
            <a:off x="4968720" y="2189160"/>
            <a:ext cx="1078200" cy="1090440"/>
          </a:xfrm>
          <a:prstGeom prst="rect">
            <a:avLst/>
          </a:prstGeom>
          <a:ln w="0">
            <a:noFill/>
          </a:ln>
        </p:spPr>
      </p:pic>
      <p:pic>
        <p:nvPicPr>
          <p:cNvPr id="576" name="Bulletin Board - Online Safety Commercial.mp4" descr=""/>
          <p:cNvPicPr/>
          <p:nvPr/>
        </p:nvPicPr>
        <p:blipFill>
          <a:blip r:embed="rId3"/>
          <a:stretch/>
        </p:blipFill>
        <p:spPr>
          <a:xfrm>
            <a:off x="1206360" y="426960"/>
            <a:ext cx="6632640" cy="593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Content Placeholder 3" descr=""/>
          <p:cNvPicPr/>
          <p:nvPr/>
        </p:nvPicPr>
        <p:blipFill>
          <a:blip r:embed="rId1"/>
          <a:stretch/>
        </p:blipFill>
        <p:spPr>
          <a:xfrm>
            <a:off x="2225520" y="92160"/>
            <a:ext cx="4480200" cy="67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 rot="17100000">
            <a:off x="-1310760" y="2655000"/>
            <a:ext cx="5065920" cy="16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ockwell"/>
              </a:rPr>
              <a:t>Screen Tim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693880" y="476280"/>
            <a:ext cx="6255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Let’s have a conversation…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"/>
          <p:cNvSpPr txBox="1"/>
          <p:nvPr/>
        </p:nvSpPr>
        <p:spPr>
          <a:xfrm rot="900000">
            <a:off x="3191040" y="985320"/>
            <a:ext cx="465768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48" name="Picture 6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5756400" cy="29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18920" y="115920"/>
            <a:ext cx="50655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History Lesson…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0" name="Nokia_ Go Play - 4th Screen.mp4" descr=""/>
          <p:cNvPicPr/>
          <p:nvPr/>
        </p:nvPicPr>
        <p:blipFill>
          <a:blip r:embed="rId1"/>
          <a:stretch/>
        </p:blipFill>
        <p:spPr>
          <a:xfrm>
            <a:off x="712800" y="884160"/>
            <a:ext cx="7547040" cy="571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82680" y="475920"/>
            <a:ext cx="64785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Rockwell"/>
              </a:rPr>
              <a:t>Experts??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2" name="Picture 1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1988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684360" y="1440000"/>
            <a:ext cx="78930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 rot="17072400">
            <a:off x="-1409040" y="2886480"/>
            <a:ext cx="60120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ffffff"/>
                </a:solidFill>
                <a:latin typeface="Rockwell"/>
              </a:rPr>
              <a:t>Why tech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5" name="Picture 7" descr=""/>
          <p:cNvPicPr/>
          <p:nvPr/>
        </p:nvPicPr>
        <p:blipFill>
          <a:blip r:embed="rId1"/>
          <a:stretch/>
        </p:blipFill>
        <p:spPr>
          <a:xfrm>
            <a:off x="2430360" y="2637000"/>
            <a:ext cx="5342040" cy="3095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"/>
          <p:cNvPicPr/>
          <p:nvPr/>
        </p:nvPicPr>
        <p:blipFill>
          <a:blip r:embed="rId2"/>
          <a:stretch/>
        </p:blipFill>
        <p:spPr>
          <a:xfrm>
            <a:off x="5100480" y="692280"/>
            <a:ext cx="390708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 rot="17100000">
            <a:off x="-1704960" y="2349360"/>
            <a:ext cx="554976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can go wrong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8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30080" indent="-3650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2311560" y="1916280"/>
            <a:ext cx="6495840" cy="3686040"/>
          </a:xfrm>
          <a:prstGeom prst="rect">
            <a:avLst/>
          </a:prstGeom>
          <a:ln w="0">
            <a:noFill/>
          </a:ln>
        </p:spPr>
      </p:pic>
      <p:pic>
        <p:nvPicPr>
          <p:cNvPr id="560" name="Cyberbully PSA - Talent Show.mp4" descr=""/>
          <p:cNvPicPr/>
          <p:nvPr/>
        </p:nvPicPr>
        <p:blipFill>
          <a:blip r:embed="rId2"/>
          <a:stretch/>
        </p:blipFill>
        <p:spPr>
          <a:xfrm>
            <a:off x="781200" y="573120"/>
            <a:ext cx="807696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611280" y="692280"/>
            <a:ext cx="723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-bully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s using the Internet, cell phones, or other technology to send or post images or texts intended to hurt or embarrass another person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230880" cy="40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555640" y="836640"/>
            <a:ext cx="360036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Choice?</a:t>
            </a:r>
            <a:endParaRPr b="0" lang="en-US" sz="6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4" name="Content Placeholder 3" descr=""/>
          <p:cNvPicPr/>
          <p:nvPr/>
        </p:nvPicPr>
        <p:blipFill>
          <a:blip r:embed="rId1"/>
          <a:stretch/>
        </p:blipFill>
        <p:spPr>
          <a:xfrm>
            <a:off x="-112680" y="2597040"/>
            <a:ext cx="4681440" cy="2632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4535640" y="2597040"/>
            <a:ext cx="4630680" cy="263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5-12-11T20:22:00Z</dcterms:modified>
  <cp:revision>105</cp:revision>
  <dc:subject/>
  <dc:title>Technology, kids and you</dc:title>
</cp:coreProperties>
</file>